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822320" y="685440"/>
            <a:ext cx="3213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5058-667E-4E75-A2F3-CB0C61436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00B0-D8DB-4309-A3FC-5C3F7C8BF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822320" y="685800"/>
            <a:ext cx="321336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7B7-1DAE-45A3-B7E9-223DB211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58291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4405680"/>
            <a:ext cx="58291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7E20-F52A-495C-9F3E-DBBEFA9A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44056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44056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558-4A38-4272-B7ED-20142180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1124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1124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44056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44056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44056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7C6-B6AA-4CB6-BA34-9AEB9D05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112480"/>
            <a:ext cx="582912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FEE8-92C6-45CE-8068-958C5946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58291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97D-BF64-4BEE-95EC-0B75DD96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284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112480"/>
            <a:ext cx="284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009-8464-41B7-8C29-BFBAD455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031-10EB-4D39-8E9F-5E81D186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650520"/>
            <a:ext cx="5829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AE4-C27A-45D8-B792-1A267D91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112480"/>
            <a:ext cx="284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44056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30E9-35D8-4F5A-AF32-5D05F1C1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284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44056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20C-8FE3-4DF2-8240-C413A9E3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4405680"/>
            <a:ext cx="58291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42F-A59A-493B-8D01-C8E67B5A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112480"/>
            <a:ext cx="58291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6664320"/>
            <a:ext cx="1428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6664320"/>
            <a:ext cx="21715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6664320"/>
            <a:ext cx="1428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A934-7BC6-45D8-B491-D1170B07A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-25560" y="165240"/>
          <a:ext cx="6883560" cy="71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65240"/>
                    <a:ext cx="6883560" cy="71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Rectangle 37"/>
          <p:cNvSpPr/>
          <p:nvPr/>
        </p:nvSpPr>
        <p:spPr>
          <a:xfrm>
            <a:off x="5261760" y="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8"/>
          <p:cNvSpPr/>
          <p:nvPr/>
        </p:nvSpPr>
        <p:spPr>
          <a:xfrm>
            <a:off x="992880" y="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Sch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1055520" y="45720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4980600" y="380880"/>
            <a:ext cx="10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ed /t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3886560" y="457200"/>
            <a:ext cx="808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2"/>
          <p:cNvSpPr/>
          <p:nvPr/>
        </p:nvSpPr>
        <p:spPr>
          <a:xfrm>
            <a:off x="564480" y="1523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3"/>
          <p:cNvSpPr/>
          <p:nvPr/>
        </p:nvSpPr>
        <p:spPr>
          <a:xfrm>
            <a:off x="616680" y="182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4"/>
          <p:cNvSpPr/>
          <p:nvPr/>
        </p:nvSpPr>
        <p:spPr>
          <a:xfrm>
            <a:off x="540360" y="22096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5"/>
          <p:cNvSpPr/>
          <p:nvPr/>
        </p:nvSpPr>
        <p:spPr>
          <a:xfrm>
            <a:off x="616320" y="25146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6"/>
          <p:cNvSpPr/>
          <p:nvPr/>
        </p:nvSpPr>
        <p:spPr>
          <a:xfrm>
            <a:off x="533520" y="289548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7"/>
          <p:cNvSpPr/>
          <p:nvPr/>
        </p:nvSpPr>
        <p:spPr>
          <a:xfrm>
            <a:off x="540000" y="32767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8"/>
          <p:cNvSpPr/>
          <p:nvPr/>
        </p:nvSpPr>
        <p:spPr>
          <a:xfrm>
            <a:off x="4045680" y="15238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9"/>
          <p:cNvSpPr/>
          <p:nvPr/>
        </p:nvSpPr>
        <p:spPr>
          <a:xfrm>
            <a:off x="4114800" y="18288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0"/>
          <p:cNvSpPr/>
          <p:nvPr/>
        </p:nvSpPr>
        <p:spPr>
          <a:xfrm>
            <a:off x="4046760" y="220968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1"/>
          <p:cNvSpPr/>
          <p:nvPr/>
        </p:nvSpPr>
        <p:spPr>
          <a:xfrm>
            <a:off x="4121640" y="2590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2"/>
          <p:cNvSpPr/>
          <p:nvPr/>
        </p:nvSpPr>
        <p:spPr>
          <a:xfrm>
            <a:off x="4045680" y="28954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4"/>
          <p:cNvSpPr/>
          <p:nvPr/>
        </p:nvSpPr>
        <p:spPr>
          <a:xfrm>
            <a:off x="457200" y="42670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ids mixed up the numbers and then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6"/>
          <p:cNvSpPr/>
          <p:nvPr/>
        </p:nvSpPr>
        <p:spPr>
          <a:xfrm>
            <a:off x="548640" y="4952880"/>
            <a:ext cx="52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mom and dad kissed me before 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7"/>
          <p:cNvSpPr/>
          <p:nvPr/>
        </p:nvSpPr>
        <p:spPr>
          <a:xfrm>
            <a:off x="543600" y="53341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for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8"/>
          <p:cNvSpPr/>
          <p:nvPr/>
        </p:nvSpPr>
        <p:spPr>
          <a:xfrm>
            <a:off x="321840" y="5638680"/>
            <a:ext cx="63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kicked Luke Skywalker into the pit?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609480" y="6019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0"/>
          <p:cNvSpPr/>
          <p:nvPr/>
        </p:nvSpPr>
        <p:spPr>
          <a:xfrm>
            <a:off x="611280" y="632448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your own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2"/>
          <p:cNvSpPr/>
          <p:nvPr/>
        </p:nvSpPr>
        <p:spPr>
          <a:xfrm>
            <a:off x="3888360" y="0"/>
            <a:ext cx="959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3"/>
          <p:cNvSpPr/>
          <p:nvPr/>
        </p:nvSpPr>
        <p:spPr>
          <a:xfrm>
            <a:off x="685800" y="47242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4"/>
          <p:cNvSpPr/>
          <p:nvPr/>
        </p:nvSpPr>
        <p:spPr>
          <a:xfrm>
            <a:off x="762120" y="47242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7"/>
          <p:cNvSpPr/>
          <p:nvPr/>
        </p:nvSpPr>
        <p:spPr>
          <a:xfrm>
            <a:off x="533520" y="4648320"/>
            <a:ext cx="65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ed the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8"/>
          <p:cNvSpPr/>
          <p:nvPr/>
        </p:nvSpPr>
        <p:spPr>
          <a:xfrm>
            <a:off x="4114800" y="32767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 Advanc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arfigh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1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6001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7:29:55Z</dcterms:created>
  <dc:creator/>
  <dc:description/>
  <dc:language>en-US</dc:language>
  <cp:lastModifiedBy>DOC23 MacBook Scholl</cp:lastModifiedBy>
  <cp:lastPrinted>2010-03-09T18:46:46Z</cp:lastPrinted>
  <dcterms:modified xsi:type="dcterms:W3CDTF">2011-01-05T18:13:22Z</dcterms:modified>
  <cp:revision>186</cp:revision>
  <dc:subject/>
  <dc:title>PowerPoint Presentation</dc:title>
</cp:coreProperties>
</file>